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200-E59E-4418-934C-CE57A373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DA0-DEB2-4766-A98E-22AA3BE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C8E-1312-4F12-ACD0-9EBAF4CF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200-302F-4C0A-B4E7-178DD828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ED7-EC7D-47E0-A0D2-D1CBAF2E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5FD-0A42-4C98-AC2E-D248C2D2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C67-36F7-4F6C-B8A5-5114D8F6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0AB-5604-4649-A147-B2A10B11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362-AF44-4D4A-8C42-0F7AD65D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5A4-19FE-44D7-A42B-086F4DF7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AA9-0073-426B-8117-B03BD26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8B1-4968-4FD1-9CF4-6FB0F5E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4786-F1A1-4610-B443-185EB4355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1882800" cy="2904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"/>
              </a:rPr>
              <a:t>The Feminist Mov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-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600200" y="7621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</a:rPr>
              <a:t>How did WWII affect wo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eCanDoItPoster%5B1%5D"/>
          <p:cNvPicPr/>
          <p:nvPr/>
        </p:nvPicPr>
        <p:blipFill>
          <a:blip r:embed="rId2"/>
          <a:stretch/>
        </p:blipFill>
        <p:spPr>
          <a:xfrm>
            <a:off x="2743200" y="1523880"/>
            <a:ext cx="34624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ARTV00332"/>
          <p:cNvPicPr/>
          <p:nvPr/>
        </p:nvPicPr>
        <p:blipFill>
          <a:blip r:embed="rId3"/>
          <a:stretch/>
        </p:blipFill>
        <p:spPr>
          <a:xfrm>
            <a:off x="1676520" y="1295280"/>
            <a:ext cx="5486400" cy="436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00012C3C"/>
          <p:cNvPicPr/>
          <p:nvPr/>
        </p:nvPicPr>
        <p:blipFill>
          <a:blip r:embed="rId4"/>
          <a:stretch/>
        </p:blipFill>
        <p:spPr>
          <a:xfrm>
            <a:off x="1219320" y="1219320"/>
            <a:ext cx="6248160" cy="446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image?id=18453&amp;rendTypeId=4"/>
          <p:cNvPicPr/>
          <p:nvPr/>
        </p:nvPicPr>
        <p:blipFill>
          <a:blip r:embed="rId5"/>
          <a:stretch/>
        </p:blipFill>
        <p:spPr>
          <a:xfrm>
            <a:off x="1143000" y="1295280"/>
            <a:ext cx="640080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371600" y="6094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WWII ended in 1945…what happened to women’s ro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wifeDM1904_468x550"/>
          <p:cNvPicPr/>
          <p:nvPr/>
        </p:nvPicPr>
        <p:blipFill>
          <a:blip r:embed="rId2"/>
          <a:stretch/>
        </p:blipFill>
        <p:spPr>
          <a:xfrm>
            <a:off x="2438280" y="1676520"/>
            <a:ext cx="3875040" cy="455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3124080" y="2057400"/>
            <a:ext cx="2371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85800" y="762120"/>
            <a:ext cx="777240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Feminism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belief that men and women should be politically, economically, and socially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JFK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resident’s Commission on th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tatus of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elped pas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qual Pay Ac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women must be paid the same as men for the sam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480" y="685800"/>
            <a:ext cx="792504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</a:rPr>
              <a:t>Key Feminist Leader (1960s)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doni MT"/>
              </a:rPr>
              <a:t>Betty Frie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t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minine Mystiq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best seller, th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me women around the country could connect over the sam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85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t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qual Rights Amendment (ERA)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svFRIEDAN_wideweb__470x461,0"/>
          <p:cNvPicPr/>
          <p:nvPr/>
        </p:nvPicPr>
        <p:blipFill>
          <a:blip r:embed="rId1"/>
          <a:stretch/>
        </p:blipFill>
        <p:spPr>
          <a:xfrm>
            <a:off x="5181480" y="2743200"/>
            <a:ext cx="3048120" cy="299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5"/>
          <p:cNvSpPr/>
          <p:nvPr/>
        </p:nvSpPr>
        <p:spPr>
          <a:xfrm>
            <a:off x="1143000" y="3352680"/>
            <a:ext cx="3962520" cy="2667240"/>
          </a:xfrm>
          <a:custGeom>
            <a:avLst/>
            <a:gdLst>
              <a:gd name="textAreaLeft" fmla="*/ 579960 w 3962520"/>
              <a:gd name="textAreaRight" fmla="*/ 3382560 w 3962520"/>
              <a:gd name="textAreaTop" fmla="*/ 390600 h 2667240"/>
              <a:gd name="textAreaBottom" fmla="*/ 227664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685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ccess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3581280" y="1523880"/>
            <a:ext cx="4724640" cy="41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JFK = Equal Pa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tle 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e v. Wade Ruling (controvers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VFAflag"/>
          <p:cNvPicPr/>
          <p:nvPr/>
        </p:nvPicPr>
        <p:blipFill>
          <a:blip r:embed="rId2"/>
          <a:stretch/>
        </p:blipFill>
        <p:spPr>
          <a:xfrm>
            <a:off x="838080" y="1676520"/>
            <a:ext cx="2524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1882800" cy="2904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6212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"/>
              </a:rPr>
              <a:t>The Feminist Mov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71600" y="56386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-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ilm"/>
          <p:cNvSpPr/>
          <p:nvPr/>
        </p:nvSpPr>
        <p:spPr>
          <a:xfrm>
            <a:off x="4191120" y="1828800"/>
            <a:ext cx="990360" cy="1981080"/>
          </a:xfrm>
          <a:custGeom>
            <a:avLst/>
            <a:gdLst>
              <a:gd name="textAreaLeft" fmla="*/ 227160 w 990360"/>
              <a:gd name="textAreaRight" fmla="*/ 783000 w 990360"/>
              <a:gd name="textAreaTop" fmla="*/ 745560 h 1981080"/>
              <a:gd name="textAreaBottom" fmla="*/ 123156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 rot="631800">
            <a:off x="7696080" y="5029200"/>
            <a:ext cx="1043280" cy="1609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447920" y="76212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doni MT"/>
              </a:rPr>
              <a:t>Important Court Case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doni MT"/>
              </a:rPr>
              <a:t>Roe v. W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VFAflag"/>
          <p:cNvPicPr/>
          <p:nvPr/>
        </p:nvPicPr>
        <p:blipFill>
          <a:blip r:embed="rId2"/>
          <a:stretch/>
        </p:blipFill>
        <p:spPr>
          <a:xfrm>
            <a:off x="838080" y="1676520"/>
            <a:ext cx="2524320" cy="3962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3657600" y="1905120"/>
            <a:ext cx="4495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efore 1973 = States regulated abortion, most outlawed its 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Roe v. Wad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= Supreme Court Case that ruled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s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three months of pregnancy = still a woman’s right = legal to abo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533520" y="457200"/>
            <a:ext cx="8153280" cy="5943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 rot="631800">
            <a:off x="7772400" y="5029200"/>
            <a:ext cx="1042920" cy="1609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533520" y="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Feminis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38080" y="236232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skerville Old Face"/>
              </a:rPr>
              <a:t>During the 1960s and 1970s, a large number of American women organized to push for greater rights and opportunities in socie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676520" y="4495680"/>
            <a:ext cx="69339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omen belong in the house... and the Sen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~Author Unknow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743200" y="68580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ee my body as an instrument, rather than an orn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Alanis Moriss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762120" y="2057400"/>
            <a:ext cx="5181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You don't have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nti-man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ro-wo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~Jane Galvi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752480" y="1295280"/>
            <a:ext cx="57182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t was we, the people; not we, the white male citizens; nor yet we, the male citizens; but we, the whole people, who formed the Union.... Men, their rights and nothing more; women, their rights and nothing l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~Susan B. Antho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1:06:41Z</dcterms:created>
  <dc:creator>Administrator</dc:creator>
  <dc:description/>
  <dc:language>en-US</dc:language>
  <cp:lastModifiedBy>Administrator</cp:lastModifiedBy>
  <dcterms:modified xsi:type="dcterms:W3CDTF">2013-04-22T13:39:04Z</dcterms:modified>
  <cp:revision>13</cp:revision>
  <dc:subject/>
  <dc:title>Slide 1</dc:title>
</cp:coreProperties>
</file>